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</p:sldIdLst>
  <p:sldSz cx="9907588" cy="7239000"/>
  <p:notesSz cx="6746875" cy="98679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063800" y="416808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504648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69180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319440" y="196812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06380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69180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319440" y="4168080"/>
            <a:ext cx="250236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1077840" y="60120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46480" y="416808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46480" y="1968120"/>
            <a:ext cx="37926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063800" y="4168080"/>
            <a:ext cx="7772400" cy="200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Symbol" charset="2"/>
              <a:buChar char="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"/>
          <p:cNvSpPr/>
          <p:nvPr/>
        </p:nvSpPr>
        <p:spPr>
          <a:xfrm>
            <a:off x="8758080" y="6730920"/>
            <a:ext cx="530280" cy="33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fld id="{88E80B07-1FF7-4D5C-A5FE-49868379D1CA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" name=""/>
          <p:cNvGrpSpPr/>
          <p:nvPr/>
        </p:nvGrpSpPr>
        <p:grpSpPr>
          <a:xfrm>
            <a:off x="237960" y="6232680"/>
            <a:ext cx="2654640" cy="785520"/>
            <a:chOff x="237960" y="6232680"/>
            <a:chExt cx="2654640" cy="785520"/>
          </a:xfrm>
        </p:grpSpPr>
        <p:sp>
          <p:nvSpPr>
            <p:cNvPr id="4" name=""/>
            <p:cNvSpPr/>
            <p:nvPr/>
          </p:nvSpPr>
          <p:spPr>
            <a:xfrm>
              <a:off x="270000" y="6237360"/>
              <a:ext cx="263520" cy="339480"/>
            </a:xfrm>
            <a:prstGeom prst="rect">
              <a:avLst/>
            </a:prstGeom>
            <a:solidFill>
              <a:srgbClr val="063de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237960" y="6232680"/>
              <a:ext cx="2654640" cy="785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360" rIns="90360" tIns="44280" bIns="44280" anchor="t">
              <a:spAutoFit/>
            </a:bodyPr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800" spc="-1" strike="noStrike">
                  <a:solidFill>
                    <a:srgbClr val="fc0128"/>
                  </a:solidFill>
                  <a:latin typeface="Times New Roman"/>
                </a:rPr>
                <a:t>S</a:t>
              </a:r>
              <a:r>
                <a:rPr b="1" lang="en-US" sz="1200" spc="-1" strike="noStrike">
                  <a:solidFill>
                    <a:srgbClr val="fc0128"/>
                  </a:solidFill>
                  <a:latin typeface="Times New Roman"/>
                </a:rPr>
                <a:t> </a:t>
              </a:r>
              <a:r>
                <a:rPr b="1" lang="en-US" sz="2400" spc="-1" strike="noStrike">
                  <a:solidFill>
                    <a:srgbClr val="fc0128"/>
                  </a:solidFill>
                  <a:latin typeface="Times New Roman"/>
                </a:rPr>
                <a:t>ystem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2000" spc="-1" strike="noStrike">
                  <a:solidFill>
                    <a:srgbClr val="000000"/>
                  </a:solidFill>
                  <a:latin typeface="Times New Roman"/>
                </a:rPr>
                <a:t>Analysis Laboratory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75000"/>
                </a:lnSpc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1" lang="en-US" sz="1300" spc="-1" strike="noStrike">
                  <a:solidFill>
                    <a:srgbClr val="000000"/>
                  </a:solidFill>
                  <a:latin typeface="Times New Roman"/>
                </a:rPr>
                <a:t>Helsinki University of Technology</a:t>
              </a:r>
              <a:endParaRPr b="0" lang="en-US" sz="13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" name=""/>
          <p:cNvSpPr/>
          <p:nvPr/>
        </p:nvSpPr>
        <p:spPr>
          <a:xfrm>
            <a:off x="1533600" y="6324480"/>
            <a:ext cx="8219880" cy="185760"/>
          </a:xfrm>
          <a:prstGeom prst="rect">
            <a:avLst/>
          </a:prstGeom>
          <a:gradFill rotWithShape="0">
            <a:gsLst>
              <a:gs pos="0">
                <a:srgbClr val="1c2a4b"/>
              </a:gs>
              <a:gs pos="100000">
                <a:srgbClr val="618ffd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wmf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730080" y="2895480"/>
            <a:ext cx="91760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761760" y="2437920"/>
            <a:ext cx="838188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PRE - Workbench for Interactive Preference Programming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1523880" y="4114800"/>
            <a:ext cx="7315200" cy="1828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aimo P. Hämäläine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Jyri Heleniu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ttp://www.hut.fi/Units/Systems.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1066680" y="1447560"/>
            <a:ext cx="7772400" cy="5331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56000"/>
          </a:bodyPr>
          <a:p>
            <a:pPr marL="191880" indent="-191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M gives preference statements, which define intervals of the weight ratio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191880" indent="0">
              <a:spcBef>
                <a:spcPts val="799"/>
              </a:spcBef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64" name=""/>
              <p:cNvSpPr txBox="1"/>
              <p:nvPr/>
            </p:nvSpPr>
            <p:spPr>
              <a:xfrm>
                <a:off x="1066680" y="2819520"/>
                <a:ext cx="2971800" cy="16002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l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  <m:r>
                      <m:t xml:space="preserve">≤</m:t>
                    </m:r>
                    <m:f>
                      <m:num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i</m:t>
                            </m:r>
                          </m:sub>
                        </m:sSub>
                      </m:num>
                      <m:den>
                        <m:sSub>
                          <m:e>
                            <m:r>
                              <m:t xml:space="preserve">w</m:t>
                            </m:r>
                          </m:e>
                          <m:sub>
                            <m:r>
                              <m:t xml:space="preserve">j</m:t>
                            </m:r>
                          </m:sub>
                        </m:sSub>
                      </m:den>
                    </m:f>
                    <m:r>
                      <m:t xml:space="preserve">≤</m:t>
                    </m:r>
                    <m:sSub>
                      <m:e>
                        <m:r>
                          <m:t xml:space="preserve">u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ij</m:t>
                        </m:r>
                      </m:sub>
                    </m:sSub>
                  </m:oMath>
                </a14:m>
              </a:p>
            </p:txBody>
          </p:sp>
        </mc:Choice>
        <mc:Fallback/>
      </mc:AlternateContent>
      <p:sp>
        <p:nvSpPr>
          <p:cNvPr id="65" name=""/>
          <p:cNvSpPr/>
          <p:nvPr/>
        </p:nvSpPr>
        <p:spPr>
          <a:xfrm>
            <a:off x="914400" y="4648320"/>
            <a:ext cx="7772400" cy="207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tervals for alternatives: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eries of   LP - problem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title"/>
          </p:nvPr>
        </p:nvSpPr>
        <p:spPr>
          <a:xfrm>
            <a:off x="1066680" y="60948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reference programm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7" name="" descr=""/>
          <p:cNvPicPr/>
          <p:nvPr/>
        </p:nvPicPr>
        <p:blipFill>
          <a:blip r:embed="rId1"/>
          <a:stretch/>
        </p:blipFill>
        <p:spPr>
          <a:xfrm>
            <a:off x="4648320" y="2819520"/>
            <a:ext cx="4929120" cy="14428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feasible reg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143000" y="1371600"/>
            <a:ext cx="7089840" cy="1447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“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The attribute X is at least two but no more than four times as attractive as attribute Y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0" name="" descr=""/>
          <p:cNvPicPr/>
          <p:nvPr/>
        </p:nvPicPr>
        <p:blipFill>
          <a:blip r:embed="rId1"/>
          <a:stretch/>
        </p:blipFill>
        <p:spPr>
          <a:xfrm>
            <a:off x="3124080" y="2743200"/>
            <a:ext cx="2819520" cy="674640"/>
          </a:xfrm>
          <a:prstGeom prst="rect">
            <a:avLst/>
          </a:prstGeom>
          <a:ln w="0">
            <a:noFill/>
          </a:ln>
        </p:spPr>
      </p:pic>
      <p:sp>
        <p:nvSpPr>
          <p:cNvPr id="71" name=""/>
          <p:cNvSpPr/>
          <p:nvPr/>
        </p:nvSpPr>
        <p:spPr>
          <a:xfrm>
            <a:off x="1219320" y="3429000"/>
            <a:ext cx="70866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5000"/>
          </a:bodyPr>
          <a:p>
            <a:pPr marL="325800" indent="-3258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easible region = the set of local priority vectors which satisfy the inequalities arising from the interval judgements, i.e.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2" name="" descr=""/>
          <p:cNvPicPr/>
          <p:nvPr/>
        </p:nvPicPr>
        <p:blipFill>
          <a:blip r:embed="rId2"/>
          <a:stretch/>
        </p:blipFill>
        <p:spPr>
          <a:xfrm>
            <a:off x="1219320" y="4800600"/>
            <a:ext cx="8686800" cy="207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106668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mbiguity Index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1066680" y="1447920"/>
            <a:ext cx="7772400" cy="1079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dex, which characterizes how specific the DM’s preference statements ar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5" name="" descr=""/>
          <p:cNvPicPr/>
          <p:nvPr/>
        </p:nvPicPr>
        <p:blipFill>
          <a:blip r:embed="rId1"/>
          <a:stretch/>
        </p:blipFill>
        <p:spPr>
          <a:xfrm>
            <a:off x="2590920" y="2590920"/>
            <a:ext cx="4444920" cy="1033200"/>
          </a:xfrm>
          <a:prstGeom prst="rect">
            <a:avLst/>
          </a:prstGeom>
          <a:ln w="0">
            <a:noFill/>
          </a:ln>
        </p:spPr>
      </p:pic>
      <p:sp>
        <p:nvSpPr>
          <p:cNvPr id="76" name=""/>
          <p:cNvSpPr/>
          <p:nvPr/>
        </p:nvSpPr>
        <p:spPr>
          <a:xfrm>
            <a:off x="1143000" y="36576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rmAutofit fontScale="91000"/>
          </a:bodyPr>
          <a:p>
            <a:pPr marL="312120" indent="-31212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opert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76080" indent="-25992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7" name="" descr=""/>
          <p:cNvPicPr/>
          <p:nvPr/>
        </p:nvPicPr>
        <p:blipFill>
          <a:blip r:embed="rId2"/>
          <a:stretch/>
        </p:blipFill>
        <p:spPr>
          <a:xfrm>
            <a:off x="1752480" y="4267080"/>
            <a:ext cx="6647040" cy="19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dvantages of interval method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680" y="137124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Partial progressively increasing  informatio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llows ambiquity  -all comparisons not necessa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Group decision suppor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ll opinions embedded into the interva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P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143000" y="10663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rst to solve all interval method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Efficient algorithm computes extreme points instantaneously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-  sensitivity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ximum number of subcriteria or alternatives is 9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umber of levels in the value tree  not limite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-3222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Results can be copied or linked to /from other Windows programs (e.g. Excel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2200" indent="0">
              <a:spcBef>
                <a:spcPts val="799"/>
              </a:spcBef>
              <a:buNone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82" name=""/>
          <p:cNvGraphicFramePr/>
          <p:nvPr/>
        </p:nvGraphicFramePr>
        <p:xfrm>
          <a:off x="762120" y="152280"/>
          <a:ext cx="8610480" cy="6019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152280"/>
                    <a:ext cx="8610480" cy="6019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063de8"/>
                </a:solidFill>
                <a:latin typeface="Times New Roman"/>
              </a:rPr>
              <a:t>Value ratings on attribut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990720" y="2590920"/>
            <a:ext cx="7772400" cy="2314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906120" cy="624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" descr=""/>
          <p:cNvPicPr/>
          <p:nvPr/>
        </p:nvPicPr>
        <p:blipFill>
          <a:blip r:embed="rId1"/>
          <a:stretch/>
        </p:blipFill>
        <p:spPr>
          <a:xfrm>
            <a:off x="1219320" y="304920"/>
            <a:ext cx="7800840" cy="570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8" name="" descr=""/>
          <p:cNvPicPr/>
          <p:nvPr/>
        </p:nvPicPr>
        <p:blipFill>
          <a:blip r:embed="rId1"/>
          <a:stretch/>
        </p:blipFill>
        <p:spPr>
          <a:xfrm>
            <a:off x="1066680" y="304920"/>
            <a:ext cx="7801200" cy="5705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al MCDA methods: 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063440" y="1968120"/>
            <a:ext cx="803412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74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PAIR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Preference Assessment by Incomplete Ratio Statements                      (Salo ,Hämäläinen OR 1992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74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SPAIRS 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= Simple PAIRS =                    </a:t>
            </a: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Interval SMART/SWING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 (New method)</a:t>
            </a:r>
            <a:endParaRPr b="0" lang="en-US" sz="31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100" spc="-1" strike="noStrike">
                <a:solidFill>
                  <a:srgbClr val="063de8"/>
                </a:solidFill>
                <a:latin typeface="Times New Roman"/>
              </a:rPr>
              <a:t>Interval AHP</a:t>
            </a:r>
            <a:r>
              <a:rPr b="0" lang="en-US" sz="3100" spc="-1" strike="noStrike">
                <a:solidFill>
                  <a:srgbClr val="000000"/>
                </a:solidFill>
                <a:latin typeface="Times New Roman"/>
              </a:rPr>
              <a:t>-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ce programming (Salo,Hämäläinen MCDM 1991,EJOR 199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" descr=""/>
          <p:cNvPicPr/>
          <p:nvPr/>
        </p:nvPicPr>
        <p:blipFill>
          <a:blip r:embed="rId1"/>
          <a:stretch/>
        </p:blipFill>
        <p:spPr>
          <a:xfrm>
            <a:off x="609480" y="609480"/>
            <a:ext cx="8229600" cy="5524560"/>
          </a:xfrm>
          <a:prstGeom prst="rect">
            <a:avLst/>
          </a:prstGeom>
          <a:ln w="0">
            <a:noFill/>
          </a:ln>
        </p:spPr>
      </p:pic>
      <p:sp>
        <p:nvSpPr>
          <p:cNvPr id="90" name=""/>
          <p:cNvSpPr/>
          <p:nvPr/>
        </p:nvSpPr>
        <p:spPr>
          <a:xfrm>
            <a:off x="53352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PAIRS with reference attribute in the midd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" descr=""/>
          <p:cNvPicPr/>
          <p:nvPr/>
        </p:nvPicPr>
        <p:blipFill>
          <a:blip r:embed="rId1"/>
          <a:stretch/>
        </p:blipFill>
        <p:spPr>
          <a:xfrm>
            <a:off x="457200" y="762120"/>
            <a:ext cx="8153280" cy="545616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SPAIRS with reference attribute the most important = SWI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838080" y="380880"/>
            <a:ext cx="7801200" cy="5705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991360" cy="532908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80880" y="152280"/>
            <a:ext cx="8229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Interval AHP: pairwise comparison of attributes and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838080" y="914400"/>
            <a:ext cx="4124520" cy="218124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038480" y="2362320"/>
            <a:ext cx="5429520" cy="381924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2891880" y="228600"/>
            <a:ext cx="3645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500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63de8"/>
                </a:solidFill>
                <a:latin typeface="Times New Roman"/>
              </a:rPr>
              <a:t>Export of results into Exc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Future  research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1447920" y="167616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escription of 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stuctured procedures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based on  interval method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Behavioural testing with real cases and  decision makers-individual and  grou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Winpre software is  a fully operational DSS tool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available free for research purpose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63de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http://www.hut.fi/Units/Systems.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066680" y="-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Times New Roman"/>
              </a:rPr>
              <a:t>Referenc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254880" y="990720"/>
            <a:ext cx="8221320" cy="5384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he underlying methodology of the program is described in the references below.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PAI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eference assessment by imprecise ratio statements, Operations Researc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ol. 40, No. 6, November-December 1992, pp. 1053-106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Preference Programming (INPRE-mode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eference programming through approximate ratio comparison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European Journal of Operational Research, Vol. 82, Issue 3, 1995, pp. 458-475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ocessing interval judgments in the analytic hierarchy process, Proc. of the Ninth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International Conference: Theory and Applications in Business, Industry and Government, in: Multipl Crite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cision Making, A. Goicocchea, L. Duckstein and S. Zionts (eds.), Springer-Verlag, New-York, August 1990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Fairfax, Virginia, 1991, pp. 359-371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: Inconsistency analysis by approximately specified priorities, Mathematical and Computer Modell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Vol. 17, No. 4/5, 1993, pp. 123-133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"/>
          <p:cNvSpPr/>
          <p:nvPr/>
        </p:nvSpPr>
        <p:spPr>
          <a:xfrm>
            <a:off x="359280" y="457200"/>
            <a:ext cx="7852680" cy="50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n-GB" sz="1400" spc="-1" strike="noStrike">
                <a:solidFill>
                  <a:srgbClr val="000000"/>
                </a:solidFill>
                <a:latin typeface="Times New Roman"/>
              </a:rPr>
              <a:t>Related articl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. Pöyhönen and R.P. Hämäläinen: On the convergence of multiattribute weighting methods, Helsinki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University of Technology, Systems Analysis Laboratory Research Reports A69, October 1997.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vailable from http://www.hut.fi/Units/Systems.Analysis/Publications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M. Pöyhönen, R.P. Hämäläinen and A. A. Salo: An experiment on the numerical modeling of verbal ratio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tatements, Journal of Multi-Criteria Decision Analysis, Vol. 6, 1997, pp. 1-1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Salo and R.P. Hämäläinen: PRIME - Preference ratios in multiattribute evaluation, Helsinki University of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Technology, Systems Analysis Laboratory Research Reports A43, July 1992. (revised December 1997)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vailable from http://www.hut.fi/Units/Systems.Analysis/Publications/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Salo and R.P. Hämäläinen: On the measurement of preferences in the analytic hierarchy process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(and comments by V. Belton, E. Choo, T. Donegan, T. Gear, T. Saaty, B. Schoner, A. Stam, M. Weber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B. Wedley) Journal of Multi-Criteria Decision Analysis, Vol. 6, 1997, pp. 309-33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A. Salo and R.P. Hämäläinen: Rejoinder: The issue is understanding the weights, Journal of Multi-Criteri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Decision Analysis, Vol. 6, 1997, pp. 340-3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-338760" y="152280"/>
            <a:ext cx="10309320" cy="640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99"/>
              </a:spcBef>
              <a:spcAft>
                <a:spcPts val="300"/>
              </a:spcAft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n-GB" sz="1400" spc="-1" strike="noStrike">
                <a:solidFill>
                  <a:srgbClr val="0000ff"/>
                </a:solidFill>
                <a:latin typeface="Arial Lihavoitu"/>
              </a:rPr>
              <a:t>Applications, Group decis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See the references below to get information about applications of the PAIRS and Preference Programming methods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A. Salo: Interactive decision aiding for group decision support, European Journal of Operational Research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84, 1995, pp. 134-14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O. Leikola: Spontaneous decision conferencing in parliamentary negotiations, Proc. of th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27th Hawaii International Conference on Systems Sciences, IEEE Computer Society Press, Hawaii, January 4-7,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IV, 1995, pp. 290-299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O. Leikola: Spontaneous decision conferencing with top-level politicians, OR Insigh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Vol. 9, Issue 1, 1996, pp. 24-2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M. Pöyhönen: On-line group decision support by preference programming in traffic planning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Group Decision and Negotiation, Vol. 5, 1996, pp. 485-500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, A. Salo and K. Pöysti: Observation about consensus seeking in a multiple criteria environm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Proc. of the Twenty-Fifth Hawaii International Conference on Systems Sciences, Hawaii, Vol. IV, January 1992, pp. 190-198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R.P. Hämäläinen and E. Kettunen: On-line group decision support by HIPRE 3+ Group Link, Proc. of the 3r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International Symposium on the Analytic Hierarchy Process, Washington, D.C., July 11-13, 1994, pp. 547-557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A. Salo and R.P. Hämäläinen: Decision support under ambigous preference statements, Proc. of the AIRO'90 Annual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99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 Lihavoitu"/>
              </a:rPr>
              <a:t>conference of the Italian OR society, Sorrento, Italy, October 1990, pp. 229-243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6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Related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3800" y="1294920"/>
            <a:ext cx="7772400" cy="4884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n-hierarchic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UTA (Jacquet-Lagreze &amp; Siskos 1982)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dditive utility function estimated from regression analysis of ordinal preference stateme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HOPIE (Weber 1985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nstraints on additive or multiplicative utility function from value intervals and holistic judgements among hypothetical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/>
          </p:nvPr>
        </p:nvSpPr>
        <p:spPr>
          <a:xfrm>
            <a:off x="685800" y="380880"/>
            <a:ext cx="7927920" cy="5646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7000"/>
          </a:bodyPr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IADN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ion modelled by set inclusion; holistic judgements among alternativ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SMAUT (White et al. 1984, Scherer et al. 1986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Uncertainty about attribute weights and utilities, exactly specified probabil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32640" indent="-33264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Hierarchical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D (Moskowitz et al. 1989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e probabilities and utilities in decision tre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20720" indent="-27720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CRID (Moskowitz et al. 1991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08440" indent="-2214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mprecise attribute weights; reduction of the set of non-dominated alternatives via stochastic dominanc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1063800" y="533160"/>
            <a:ext cx="7772400" cy="5646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HP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aty &amp; Vargas (1987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valued replies to pairwise comparisons suggested as a way to capture subjective uncertainty direct analysis of interval matrices intracta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Arbel (1989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terval judgements interpreted as linear constraints on local priorit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alo &amp; Hämäläinen (1990)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imes New Roman"/>
              <a:buChar char="•"/>
              <a:tabLst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Efficient decomposition scheme for processing interval judgements in hierarchi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br>
              <a:rPr sz="4400"/>
            </a:b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PAIRS - Preference Assessment by Imprecise Ratio Statements </a:t>
            </a:r>
            <a:br>
              <a:rPr sz="4400"/>
            </a:b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terval value tree analysi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wise ratio statements about the relative importance of attributes ( as intervals)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alue intervals for the alternative scores (imprecition in value function and measurements  combined in WINPRE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cy in pairwise  statements not allow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/>
          </p:nvPr>
        </p:nvSpPr>
        <p:spPr>
          <a:xfrm>
            <a:off x="838080" y="13712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4000"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I  Absolut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dominates b if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low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value interval for a is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higher than upper bound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of the value interval for b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II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Pairwise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: a dominates  b if there are </a:t>
            </a:r>
            <a:r>
              <a:rPr b="0" lang="en-US" sz="2800" spc="-1" strike="noStrike">
                <a:solidFill>
                  <a:srgbClr val="063de8"/>
                </a:solidFill>
                <a:latin typeface="Times New Roman"/>
              </a:rPr>
              <a:t>no feasible weights, so that  V(b)  &gt; V( a).</a:t>
            </a:r>
            <a:r>
              <a:rPr b="0" lang="en-US" sz="3200" spc="-1" strike="noStrike">
                <a:solidFill>
                  <a:srgbClr val="063de8"/>
                </a:solidFill>
                <a:latin typeface="Times New Roman"/>
              </a:rPr>
              <a:t>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799"/>
              </a:spcBef>
              <a:buNone/>
              <a:tabLst>
                <a:tab algn="l" pos="0"/>
                <a:tab algn="l" pos="380880"/>
                <a:tab algn="l" pos="762120"/>
                <a:tab algn="l" pos="1143000"/>
                <a:tab algn="l" pos="1523880"/>
                <a:tab algn="l" pos="1905120"/>
                <a:tab algn="l" pos="2286000"/>
                <a:tab algn="l" pos="2666880"/>
                <a:tab algn="l" pos="3048120"/>
                <a:tab algn="l" pos="3429000"/>
                <a:tab algn="l" pos="3809880"/>
                <a:tab algn="l" pos="4191120"/>
                <a:tab algn="l" pos="4572000"/>
                <a:tab algn="l" pos="4952880"/>
                <a:tab algn="l" pos="5334120"/>
                <a:tab algn="l" pos="5715000"/>
                <a:tab algn="l" pos="6095880"/>
                <a:tab algn="l" pos="6477120"/>
                <a:tab algn="l" pos="6858000"/>
                <a:tab algn="l" pos="7238880"/>
                <a:tab algn="l" pos="762012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   =&gt;  II   , not    II  =&gt;  I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title"/>
          </p:nvPr>
        </p:nvSpPr>
        <p:spPr>
          <a:xfrm>
            <a:off x="1066680" y="457200"/>
            <a:ext cx="7772400" cy="380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</a:rPr>
              <a:t>Dominance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4889520" y="3543480"/>
            <a:ext cx="125280" cy="150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1077840" y="6012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PAIRS = Interval SMART/SWING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063800" y="1968120"/>
            <a:ext cx="7772400" cy="42116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imple PAIRS : local  comparisons  made with respect to one  reference attribute onl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Generalization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c0128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fc0128"/>
                </a:solidFill>
                <a:latin typeface="Times New Roman"/>
              </a:rPr>
              <a:t>Reference  : most / least important or intermediat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No inconsistency problems ( because there are no extra comparisons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Easier to use than other interval method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06668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Interval AHP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066680" y="1523520"/>
            <a:ext cx="7772400" cy="42116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reference Programming term first used for AHP (Arbel 1988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Pairwise comparisons with upper and lower  limits for criteria and alternativ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Inconsistency not allowed          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not a version of true AHP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           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onsistency  must in elici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1523880" y="4419720"/>
            <a:ext cx="824040" cy="304560"/>
          </a:xfrm>
          <a:prstGeom prst="rightArrow">
            <a:avLst>
              <a:gd name="adj1" fmla="val 50000"/>
              <a:gd name="adj2" fmla="val 6764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1523880" y="4952880"/>
            <a:ext cx="824040" cy="304920"/>
          </a:xfrm>
          <a:prstGeom prst="rightArrow">
            <a:avLst>
              <a:gd name="adj1" fmla="val 50000"/>
              <a:gd name="adj2" fmla="val 67562"/>
            </a:avLst>
          </a:prstGeom>
          <a:solidFill>
            <a:srgbClr val="618ffd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388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8-04-16T11:52:25Z</dcterms:created>
  <dc:creator>Jyri Helenius</dc:creator>
  <dc:description/>
  <dc:language>en-US</dc:language>
  <cp:lastModifiedBy>Systems Analysis Laboratory</cp:lastModifiedBy>
  <cp:lastPrinted>1998-04-23T12:15:28Z</cp:lastPrinted>
  <dcterms:modified xsi:type="dcterms:W3CDTF">1998-06-01T11:47:09Z</dcterms:modified>
  <cp:revision>31</cp:revision>
  <dc:subject/>
  <dc:title>Interval SMART/SWING and Winpre </dc:title>
</cp:coreProperties>
</file>