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907588" cy="7239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77724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3800" y="4168080"/>
            <a:ext cx="77724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3800" y="416808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6480" y="416808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1800" y="196812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9440" y="196812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3800" y="416808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1800" y="416808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9440" y="416808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77840" y="601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3800" y="416808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6480" y="416808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3800" y="4168080"/>
            <a:ext cx="77724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758080" y="6730920"/>
            <a:ext cx="53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FC9D5A-F75E-4BF4-B419-FF2D681DFC0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37960" y="6232680"/>
            <a:ext cx="2654640" cy="785520"/>
            <a:chOff x="237960" y="6232680"/>
            <a:chExt cx="2654640" cy="785520"/>
          </a:xfrm>
        </p:grpSpPr>
        <p:sp>
          <p:nvSpPr>
            <p:cNvPr id="4" name=""/>
            <p:cNvSpPr/>
            <p:nvPr/>
          </p:nvSpPr>
          <p:spPr>
            <a:xfrm>
              <a:off x="270000" y="6237360"/>
              <a:ext cx="263520" cy="3394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7960" y="6232680"/>
              <a:ext cx="26546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fc0128"/>
                  </a:solidFill>
                  <a:latin typeface="Times New Roman"/>
                </a:rPr>
                <a:t>S</a:t>
              </a:r>
              <a:r>
                <a:rPr b="1" lang="en-US" sz="12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alysis Laborat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Helsinki University of Technolog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1533600" y="6324480"/>
            <a:ext cx="8219880" cy="18576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0080" y="2895480"/>
            <a:ext cx="917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437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PRE - Workbench for Interactive Preference Programm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880" y="411480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mo P. Hämälä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yri Helen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hut.fi/Units/Systems.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M gives preference statements, which define intervals of the weight rat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066680" y="2819520"/>
                <a:ext cx="29718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914400" y="4648320"/>
            <a:ext cx="77724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intervals for alternatives: 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Series of   LP -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ference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2819520"/>
            <a:ext cx="492912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easible reg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0898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The attribute X is at least two but no more than four times as attractive as attribute 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819520" cy="674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342900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sible region = the set of local priority vectors which satisfy the inequalities arising from the interval judgements, i.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19320" y="4800600"/>
            <a:ext cx="868680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iguit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, which characterizes how specific the DM’s preference statement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4444920" cy="1033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43000" y="3657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52480" y="4267080"/>
            <a:ext cx="66470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interval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Partial progressively increasing 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ambiquity  -all comparisons not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decision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pinions embedded into the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P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to solve all interval metho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Efficient algorithm computes extreme points instantaneous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 sensitivit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number of subcriteria or alternatives is 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levels in the value tree  not limi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can be copied or linked to /from other Windows programs (e.g. Exc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762120" y="152280"/>
          <a:ext cx="86104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280"/>
                    <a:ext cx="86104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Value ratings on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77724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7800840" cy="57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8012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val MCDA methods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3440" y="1968120"/>
            <a:ext cx="803412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63de8"/>
                </a:solidFill>
                <a:latin typeface="Times New Roman"/>
              </a:rPr>
              <a:t>PAIRS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= Preference Assessment by Incomplete Ratio Statements                      (Salo ,Hämäläinen OR 1992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63de8"/>
                </a:solidFill>
                <a:latin typeface="Times New Roman"/>
              </a:rPr>
              <a:t>SPAIRS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= Simple PAIRS =                    </a:t>
            </a:r>
            <a:r>
              <a:rPr b="0" lang="en-US" sz="3100" spc="-1" strike="noStrike">
                <a:solidFill>
                  <a:srgbClr val="063de8"/>
                </a:solidFill>
                <a:latin typeface="Times New Roman"/>
              </a:rPr>
              <a:t>Interval SMART/SWIN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New method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63de8"/>
                </a:solidFill>
                <a:latin typeface="Times New Roman"/>
              </a:rPr>
              <a:t>Interval AH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ence programming (Salo,Hämäläinen MCDM 1991,EJOR 19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229600" cy="5524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3520" y="152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SPAIRS with reference attribute in the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53280" cy="5456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152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SPAIRS with reference attribute the most important = S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8012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991360" cy="532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152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Interval AHP: pairwise comparison of attributes and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4124520" cy="2181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038480" y="2362320"/>
            <a:ext cx="5429520" cy="3819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91880" y="228600"/>
            <a:ext cx="36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Export of results into 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on of  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stuctured procedu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sed on  interval meth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ural testing with real cases and  decision makers-individual and 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pre software is  a fully operational DSS tool 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available free for research purpo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http://www.hut.fi/Units/Systems.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4880" y="990720"/>
            <a:ext cx="822132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underlying methodology of the program is described in the references below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PA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 and R.P. Hämäläinen: Preference assessment by imprecise ratio statements, Operations Research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ol. 40, No. 6, November-December 1992, pp. 1053-106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Preference Programming (INPRE-m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 and R.P. Hämäläinen: Preference programming through approximate ratio comparison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ropean Journal of Operational Research, Vol. 82, Issue 3, 1995, pp. 458-47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 and R.P. Hämäläinen: Processing interval judgments in the analytic hierarchy process, Proc. of the Nin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ternational Conference: Theory and Applications in Business, Industry and Government, in: Multipl Criter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cision Making, A. Goicocchea, L. Duckstein and S. Zionts (eds.), Springer-Verlag, New-York, August 1990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airfax, Virginia, 1991, pp. 359-37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: Inconsistency analysis by approximately specified priorities, Mathematical and Computer Modell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ol. 17, No. 4/5, 1993, pp. 123-13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9280" y="457200"/>
            <a:ext cx="785268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Related arti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. Pöyhönen and R.P. Hämäläinen: On the convergence of multiattribute weighting methods, Helsin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niversity of Technology, Systems Analysis Laboratory Research Reports A69, October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Available from http://www.hut.fi/Units/Systems.Analysis/Publications/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. Pöyhönen, R.P. Hämäläinen and A. A. Salo: An experiment on the numerical modeling of verbal rat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atements, Journal of Multi-Criteria Decision Analysis, Vol. 6, 1997, pp. 1-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 and R.P. Hämäläinen: PRIME - Preference ratios in multiattribute evaluation, Helsinki University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chnology, Systems Analysis Laboratory Research Reports A43, July 1992. (revised December 1997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Available from http://www.hut.fi/Units/Systems.Analysis/Publications/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. Salo and R.P. Hämäläinen: On the measurement of preferences in the analytic hierarchy proces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and comments by V. Belton, E. Choo, T. Donegan, T. Gear, T. Saaty, B. Schoner, A. Stam, M. Weber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. Wedley) Journal of Multi-Criteria Decision Analysis, Vol. 6, 1997, pp. 309-33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. Salo and R.P. Hämäläinen: Rejoinder: The issue is understanding the weights, Journal of Multi-Criter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cision Analysis, Vol. 6, 1997, pp. 340-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338760" y="152280"/>
            <a:ext cx="1030932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 Lihavoitu"/>
              </a:rPr>
              <a:t>Applications, Group dec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See the references below to get information about applications of the PAIRS and Preference Programming metho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A. Salo: Interactive decision aiding for group decision support, European Journal of Operational Research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Vol. 84, 1995, pp. 134-14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 and O. Leikola: Spontaneous decision conferencing in parliamentary negotiations, Proc.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27th Hawaii International Conference on Systems Sciences, IEEE Computer Society Press, Hawaii, January 4-7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Vol. IV, 1995, pp. 290-29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 and O. Leikola: Spontaneous decision conferencing with top-level politicians, OR Insigh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Vol. 9, Issue 1, 1996, pp. 24-2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 and M. Pöyhönen: On-line group decision support by preference programming in traffic plann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Group Decision and Negotiation, Vol. 5, 1996, pp. 485-5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, A. Salo and K. Pöysti: Observation about consensus seeking in a multiple criteria environm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Proc. of the Twenty-Fifth Hawaii International Conference on Systems Sciences, Hawaii, Vol. IV, January 1992, pp. 190-19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 and E. Kettunen: On-line group decision support by HIPRE 3+ Group Link, Proc. of the 3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International Symposium on the Analytic Hierarchy Process, Washington, D.C., July 11-13, 1994, pp. 547-5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A. Salo and R.P. Hämäläinen: Decision support under ambigous preference statements, Proc. of the AIRO'90 Annu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conference of the Italian OR society, Sorrento, Italy, October 1990, pp. 229-2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3800" y="1294920"/>
            <a:ext cx="7772400" cy="488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hierarchical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A (Jacquet-Lagreze &amp; Siskos 1982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e utility function estimated from regression analysis of ordinal preference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PIE (Weber 1985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 on additive or multiplicative utility function from value intervals and holistic judgements among hypothetical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927920" cy="564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AD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cision modelled by set inclusion; holistic judgements among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MAUT (White et al. 1984, Scherer et al. 1986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ertainty about attribute weights and utilities, exactly specified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al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D (Moskowitz et al. 1989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cise probabilities and utilities in decision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RID (Moskowitz et al. 1991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cise attribute weights; reduction of the set of non-dominated alternatives via stochastic dom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63800" y="533160"/>
            <a:ext cx="7772400" cy="564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H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aty &amp; Vargas (1987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al valued replies to pairwise comparisons suggested as a way to capture subjective uncertainty direct analysis of interval matrices intrac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el (1989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al judgements interpreted as linear constraints on local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o &amp; Hämäläinen (199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decomposition scheme for processing interval judgements in 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RS - Preference Assessment by Imprecise Ratio Statements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al value tre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wise ratio statements about the relative importance of attributes ( as intervals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intervals for the alternative scores (imprecition in value function and measurements  combined in WINP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nsistency in pairwise  statements not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I  Absol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dominates b if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lower b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value interval for a is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higher than upper b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value interval for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II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Pairwi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dominates  b if there are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no feasible weights, so that  V(b)  &gt; V( a).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  =&gt;  II   , not    II  =&gt; 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m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89520" y="3543480"/>
            <a:ext cx="125280" cy="15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IRS = Interval SMART/S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PAIRS : local  comparisons  made with respect to one  reference attribute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eference  : most / least important or intermed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nconsistency problems ( because there are no extra comparis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er to use than other interval metho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val A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21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ence Programming term first used for AHP (Arbel 198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wise comparisons with upper and lower  limits for criteria and 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nsistency not allowed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version of true A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y  must in eli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4419720"/>
            <a:ext cx="824040" cy="304560"/>
          </a:xfrm>
          <a:prstGeom prst="rightArrow">
            <a:avLst>
              <a:gd name="adj1" fmla="val 50000"/>
              <a:gd name="adj2" fmla="val 6764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952880"/>
            <a:ext cx="824040" cy="304920"/>
          </a:xfrm>
          <a:prstGeom prst="rightArrow">
            <a:avLst>
              <a:gd name="adj1" fmla="val 50000"/>
              <a:gd name="adj2" fmla="val 6756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6T11:52:25Z</dcterms:created>
  <dc:creator>Jyri Helenius</dc:creator>
  <dc:description/>
  <dc:language>en-US</dc:language>
  <cp:lastModifiedBy>Systems Analysis Laboratory</cp:lastModifiedBy>
  <cp:lastPrinted>1998-04-23T12:15:28Z</cp:lastPrinted>
  <dcterms:modified xsi:type="dcterms:W3CDTF">1998-06-01T11:47:09Z</dcterms:modified>
  <cp:revision>31</cp:revision>
  <dc:subject/>
  <dc:title>Interval SMART/SWING and Winpre </dc:title>
</cp:coreProperties>
</file>