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239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1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944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3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1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944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7840" y="601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58080" y="673092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9E516E-160D-45F1-A2E4-9FA8F63D0C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7960" y="6232680"/>
            <a:ext cx="2654640" cy="785520"/>
            <a:chOff x="237960" y="6232680"/>
            <a:chExt cx="2654640" cy="785520"/>
          </a:xfrm>
        </p:grpSpPr>
        <p:sp>
          <p:nvSpPr>
            <p:cNvPr id="4" name=""/>
            <p:cNvSpPr/>
            <p:nvPr/>
          </p:nvSpPr>
          <p:spPr>
            <a:xfrm>
              <a:off x="270000" y="6237360"/>
              <a:ext cx="263520" cy="339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7960" y="6232680"/>
              <a:ext cx="2654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S</a:t>
              </a: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 Labora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Helsinki University of Techn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1533600" y="6324480"/>
            <a:ext cx="8219880" cy="185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0080" y="289548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 - Workbench for Interactive Preference Programm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mo P. Hämälä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yri Hel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 gives preference statements, which define intervals of the weight rat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66680" y="2819520"/>
                <a:ext cx="2971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14400" y="464832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alternatives: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eries of   LP -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92912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asible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e attribute X is at least two but no more than four times as attractive as attribute 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19520" cy="67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4290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sible region = the set of local priority vectors which satisfy the inequalities arising from the interval judgements,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86868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it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, which characterizes how specific the DM’s preference statemen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444920" cy="1033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6647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terv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rtial progressively increasing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mbiquity  -all comparisons not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ecision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inions embedded into th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o solve all interv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fficient algorithm computes extreme points instantaneous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number of subcriteria or alternatives is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vels in the value tree  not lim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be copied or linked to /from other Windows programs (e.g. 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62120" y="152280"/>
          <a:ext cx="8610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Value ratings 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800840" cy="57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8012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MCDA method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3440" y="1968120"/>
            <a:ext cx="803412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Preference Assessment by Incomplete Ratio Statements                      (Salo ,Hämäläinen OR 1992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S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Simple PAIRS =                    </a:t>
            </a: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SMART/SW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New metho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AH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(Salo,Hämäläinen MCDM 1991,EJOR 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52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the most important =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80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991360" cy="532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Interval AHP: pairwise comparison of attributes and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429520" cy="3819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91880" y="228600"/>
            <a:ext cx="36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Export of results int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tuctured proced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 interval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testing with real cases and  decision makers-individual and 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pre software is  a fully operational DSS tool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available free for research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880" y="990720"/>
            <a:ext cx="82213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underlying methodology of the program is described in the references below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assessment by imprecise ratio statements, Operations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40, No. 6, November-December 1992, pp. 1053-10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reference Programming (INPRE-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programming through approximate ratio comparis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Journal of Operational Research, Vol. 82, Issue 3, 1995, pp. 458-4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ocessing interval judgments in the analytic hierarchy process, Proc. of the Nin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national Conference: Theory and Applications in Business, Industry and Government, in: Multipl 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Making, A. Goicocchea, L. Duckstein and S. Zionts (eds.), Springer-Verlag, New-York, August 1990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irfax, Virginia, 1991, pp. 359-3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: Inconsistency analysis by approximately specified priorities, Mathematical and Computer Modell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17, No. 4/5, 1993, pp. 123-13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9280" y="457200"/>
            <a:ext cx="78526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Related 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 and R.P. Hämäläinen: On the convergence of multiattribute weighting methods, 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versity of Technology, Systems Analysis Laboratory Research Reports A69, October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, R.P. Hämäläinen and A. A. Salo: An experiment on the numerical modeling of verbal rat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tements, Journal of Multi-Criteria Decision Analysis, Vol. 6, 1997, pp. 1-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IME - Preference ratios in multiattribute evaluation, Helsinki University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, Systems Analysis Laboratory Research Reports A43, July 1992. (revised December 1997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On the measurement of preferences in the analytic hierarchy proces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nd comments by V. Belton, E. Choo, T. Donegan, T. Gear, T. Saaty, B. Schoner, A. Stam, M. Web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Wedley) Journal of Multi-Criteria Decision Analysis, Vol. 6, 1997, pp. 309-3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Rejoinder: The issue is understanding the weights, Journal of Multi-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Analysis, Vol. 6, 1997, pp. 340-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38760" y="152280"/>
            <a:ext cx="103093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 Lihavoitu"/>
              </a:rPr>
              <a:t>Applications, Group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See the references below to get information about applications of the PAIRS and Preference Programming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: Interactive decision aiding for group decision support, European Journal of Operational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84, 1995, pp. 134-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in parliamentary negotiations, Proc.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27th Hawaii International Conference on Systems Sciences, IEEE Computer Society Press, Hawaii, January 4-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IV, 1995, pp. 290-2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with top-level politicians, OR Insigh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9, Issue 1, 1996, pp. 24-2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M. Pöyhönen: On-line group decision support by preference programming in traffic plann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Group Decision and Negotiation, Vol. 5, 1996, pp. 485-5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, A. Salo and K. Pöysti: Observation about consensus seeking in a multiple criteria environ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Proc. of the Twenty-Fifth Hawaii International Conference on Systems Sciences, Hawaii, Vol. IV, January 1992, pp. 190-1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E. Kettunen: On-line group decision support by HIPRE 3+ Group Link, Proc. of the 3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International Symposium on the Analytic Hierarchy Process, Washington, D.C., July 11-13, 1994, pp. 547-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 and R.P. Hämäläinen: Decision support under ambigous preference statements, Proc. of the AIRO'90 Ann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conference of the Italian OR society, Sorrento, Italy, October 1990, pp. 229-2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3800" y="129492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 (Jacquet-Lagreze &amp; Siskos 1982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utility function estimated from regression analysis of ordinal preferenc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IE (Weber 198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additive or multiplicative utility function from value intervals and holistic judgements among hypothetical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927920" cy="564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AD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ion modelled by set inclusion; holistic judgements amo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MAUT (White et al. 1984, Scherer et al. 198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about attribute weights and utilities, exactly specified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D (Moskowitz et al. 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probabilities and utilities in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RID (Moskowitz et al. 199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attribute weights; reduction of the set of non-dominated alternatives via stochastic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3800" y="5331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H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aty &amp; Vargas (1987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valued replies to pairwise comparisons suggested as a way to capture subjective uncertainty direct analysis of interval matrices intra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el (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judgements interpreted as linear constraints on local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o &amp; Hämäläinen (199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composition scheme for processing interval judgements in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S - Preference Assessment by Imprecise Ratio Statement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al value tre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ratio statements about the relative importance of attributes ( as interval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the alternative scores (imprecition in value function and measurements  combined in WIN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in pairwise  statements not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  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b if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a i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higher than upp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irw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 b if there ar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o feasible weights, so that  V(b)  &gt; V( a).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  =&gt;  II   , not    II  =&gt;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89520" y="3543480"/>
            <a:ext cx="125280" cy="15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RS = Interval SMART/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AIRS : local  comparisons  made with respect to one  reference attribut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ference  : most / least important or 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consistency problems ( because there are no extra compari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use than other interval meth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A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2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term first used for AHP (Arbel 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comparisons with upper and lower  limits for criteria and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not allowed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version of true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 must in eli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419720"/>
            <a:ext cx="824040" cy="304560"/>
          </a:xfrm>
          <a:prstGeom prst="rightArrow">
            <a:avLst>
              <a:gd name="adj1" fmla="val 50000"/>
              <a:gd name="adj2" fmla="val 6764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952880"/>
            <a:ext cx="824040" cy="304920"/>
          </a:xfrm>
          <a:prstGeom prst="rightArrow">
            <a:avLst>
              <a:gd name="adj1" fmla="val 50000"/>
              <a:gd name="adj2" fmla="val 675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1:52:25Z</dcterms:created>
  <dc:creator>Jyri Helenius</dc:creator>
  <dc:description/>
  <dc:language>en-US</dc:language>
  <cp:lastModifiedBy>Systems Analysis Laboratory</cp:lastModifiedBy>
  <cp:lastPrinted>1998-04-23T12:15:28Z</cp:lastPrinted>
  <dcterms:modified xsi:type="dcterms:W3CDTF">1998-06-01T11:47:09Z</dcterms:modified>
  <cp:revision>31</cp:revision>
  <dc:subject/>
  <dc:title>Interval SMART/SWING and Winpre </dc:title>
</cp:coreProperties>
</file>