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907588" cy="7239000"/>
  <p:notesSz cx="674687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77840" y="601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3800" y="1968120"/>
            <a:ext cx="7772400" cy="200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3800" y="4168080"/>
            <a:ext cx="7772400" cy="200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77840" y="601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3800" y="1968120"/>
            <a:ext cx="3792600" cy="200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6480" y="1968120"/>
            <a:ext cx="3792600" cy="200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3800" y="4168080"/>
            <a:ext cx="3792600" cy="200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6480" y="4168080"/>
            <a:ext cx="3792600" cy="200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77840" y="601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3800" y="1968120"/>
            <a:ext cx="2502360" cy="200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91800" y="1968120"/>
            <a:ext cx="2502360" cy="200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9440" y="1968120"/>
            <a:ext cx="2502360" cy="200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3800" y="4168080"/>
            <a:ext cx="2502360" cy="200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91800" y="4168080"/>
            <a:ext cx="2502360" cy="200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9440" y="4168080"/>
            <a:ext cx="2502360" cy="200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77840" y="601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3800" y="1968120"/>
            <a:ext cx="777240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77840" y="601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3800" y="1968120"/>
            <a:ext cx="7772400" cy="421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77840" y="601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3800" y="1968120"/>
            <a:ext cx="3792600" cy="421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6480" y="1968120"/>
            <a:ext cx="3792600" cy="421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77840" y="601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77840" y="601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77840" y="601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3800" y="1968120"/>
            <a:ext cx="3792600" cy="200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6480" y="1968120"/>
            <a:ext cx="3792600" cy="421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3800" y="4168080"/>
            <a:ext cx="3792600" cy="200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77840" y="601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3800" y="1968120"/>
            <a:ext cx="3792600" cy="421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6480" y="1968120"/>
            <a:ext cx="3792600" cy="200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6480" y="4168080"/>
            <a:ext cx="3792600" cy="200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77840" y="601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3800" y="1968120"/>
            <a:ext cx="3792600" cy="200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6480" y="1968120"/>
            <a:ext cx="3792600" cy="200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3800" y="4168080"/>
            <a:ext cx="7772400" cy="200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77840" y="601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3800" y="1968120"/>
            <a:ext cx="7772400" cy="421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Symbol" charset="2"/>
              <a:buChar char="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758080" y="6730920"/>
            <a:ext cx="53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41541B5-FD21-49B8-8017-19B801F14A3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237960" y="6232680"/>
            <a:ext cx="2654640" cy="785520"/>
            <a:chOff x="237960" y="6232680"/>
            <a:chExt cx="2654640" cy="785520"/>
          </a:xfrm>
        </p:grpSpPr>
        <p:sp>
          <p:nvSpPr>
            <p:cNvPr id="4" name=""/>
            <p:cNvSpPr/>
            <p:nvPr/>
          </p:nvSpPr>
          <p:spPr>
            <a:xfrm>
              <a:off x="270000" y="6237360"/>
              <a:ext cx="263520" cy="339480"/>
            </a:xfrm>
            <a:prstGeom prst="rect">
              <a:avLst/>
            </a:pr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37960" y="6232680"/>
              <a:ext cx="26546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800" spc="-1" strike="noStrike">
                  <a:solidFill>
                    <a:srgbClr val="fc0128"/>
                  </a:solidFill>
                  <a:latin typeface="Times New Roman"/>
                </a:rPr>
                <a:t>S</a:t>
              </a:r>
              <a:r>
                <a:rPr b="1" lang="en-US" sz="1200" spc="-1" strike="noStrike">
                  <a:solidFill>
                    <a:srgbClr val="fc0128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</a:rPr>
                <a:t>yste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nalysis Laborato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Helsinki University of Technolog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"/>
          <p:cNvSpPr/>
          <p:nvPr/>
        </p:nvSpPr>
        <p:spPr>
          <a:xfrm>
            <a:off x="1533600" y="6324480"/>
            <a:ext cx="8219880" cy="185760"/>
          </a:xfrm>
          <a:prstGeom prst="rect">
            <a:avLst/>
          </a:prstGeom>
          <a:gradFill rotWithShape="0">
            <a:gsLst>
              <a:gs pos="0">
                <a:srgbClr val="1c2a4b"/>
              </a:gs>
              <a:gs pos="100000">
                <a:srgbClr val="618ff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30080" y="2895480"/>
            <a:ext cx="917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1760" y="243792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PRE - Workbench for Interactive Preference Programm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523880" y="4114800"/>
            <a:ext cx="73152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imo P. Hämäläi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yri Heleni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hut.fi/Units/Systems.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066680" y="1447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6000"/>
          </a:bodyPr>
          <a:p>
            <a:pPr marL="19188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M gives preference statements, which define intervals of the weight rati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1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066680" y="2819520"/>
                <a:ext cx="297180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≤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r>
                      <m:t xml:space="preserve">≤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914400" y="4648320"/>
            <a:ext cx="777240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 intervals for alternatives: </a:t>
            </a:r>
            <a:r>
              <a:rPr b="0" lang="en-US" sz="3200" spc="-1" strike="noStrike">
                <a:solidFill>
                  <a:srgbClr val="063de8"/>
                </a:solidFill>
                <a:latin typeface="Times New Roman"/>
              </a:rPr>
              <a:t>Series of   LP - probl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6668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ference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648320" y="2819520"/>
            <a:ext cx="4929120" cy="14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easible reg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1371600"/>
            <a:ext cx="708984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63de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The attribute X is at least two but no more than four times as attractive as attribute Y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124080" y="2743200"/>
            <a:ext cx="2819520" cy="6746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219320" y="3429000"/>
            <a:ext cx="7086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asible region = the set of local priority vectors which satisfy the inequalities arising from the interval judgements, i.e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219320" y="4800600"/>
            <a:ext cx="8686800" cy="20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biguity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x, which characterizes how specific the DM’s preference statements 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590920" y="2590920"/>
            <a:ext cx="4444920" cy="1033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143000" y="36576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752480" y="4267080"/>
            <a:ext cx="664704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antages of interval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421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63de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63de8"/>
                </a:solidFill>
                <a:latin typeface="Times New Roman"/>
              </a:rPr>
              <a:t>Partial progressively increasing  inform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s ambiquity  -all comparisons not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 decision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pinions embedded into the inter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P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772400" cy="421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to solve all interval method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63de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63de8"/>
                </a:solidFill>
                <a:latin typeface="Times New Roman"/>
              </a:rPr>
              <a:t>Efficient algorithm computes extreme points instantaneous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 sensitivity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imum number of subcriteria or alternatives is 9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levels in the value tree  not limi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s can be copied or linked to /from other Windows programs (e.g. Exce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762120" y="152280"/>
          <a:ext cx="8610480" cy="601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2280"/>
                    <a:ext cx="861048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77840" y="601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63de8"/>
                </a:solidFill>
                <a:latin typeface="Times New Roman"/>
              </a:rPr>
              <a:t>Value ratings on 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90720" y="2590920"/>
            <a:ext cx="777240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7800840" cy="57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066680" y="304920"/>
            <a:ext cx="7801200" cy="57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77840" y="601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val MCDA methods: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3440" y="1968120"/>
            <a:ext cx="8034120" cy="421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74"/>
              </a:spcBef>
              <a:buClr>
                <a:srgbClr val="063de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100" spc="-1" strike="noStrike">
                <a:solidFill>
                  <a:srgbClr val="063de8"/>
                </a:solidFill>
                <a:latin typeface="Times New Roman"/>
              </a:rPr>
              <a:t>PAIRS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= Preference Assessment by Incomplete Ratio Statements                      (Salo ,Hämäläinen OR 1992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74"/>
              </a:spcBef>
              <a:buClr>
                <a:srgbClr val="063de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100" spc="-1" strike="noStrike">
                <a:solidFill>
                  <a:srgbClr val="063de8"/>
                </a:solidFill>
                <a:latin typeface="Times New Roman"/>
              </a:rPr>
              <a:t>SPAIRS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= Simple PAIRS =                    </a:t>
            </a:r>
            <a:r>
              <a:rPr b="0" lang="en-US" sz="3100" spc="-1" strike="noStrike">
                <a:solidFill>
                  <a:srgbClr val="063de8"/>
                </a:solidFill>
                <a:latin typeface="Times New Roman"/>
              </a:rPr>
              <a:t>Interval SMART/SWING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(New method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63de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100" spc="-1" strike="noStrike">
                <a:solidFill>
                  <a:srgbClr val="063de8"/>
                </a:solidFill>
                <a:latin typeface="Times New Roman"/>
              </a:rPr>
              <a:t>Interval AH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ference programming (Salo,Hämäläinen MCDM 1991,EJOR 199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8229600" cy="55245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33520" y="1522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63de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Times New Roman"/>
              </a:rPr>
              <a:t>SPAIRS with reference attribute in the mid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153280" cy="54561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80880" y="1522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63de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Times New Roman"/>
              </a:rPr>
              <a:t>SPAIRS with reference attribute the most important = S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80120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8991360" cy="5329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80880" y="1522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63de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Times New Roman"/>
              </a:rPr>
              <a:t>Interval AHP: pairwise comparison of attributes and altern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4124520" cy="21812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038480" y="2362320"/>
            <a:ext cx="5429520" cy="38192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891880" y="228600"/>
            <a:ext cx="36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63de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Times New Roman"/>
              </a:rPr>
              <a:t>Export of results into Exc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77840" y="601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ture 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47920" y="1676160"/>
            <a:ext cx="7772400" cy="421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ption of  </a:t>
            </a:r>
            <a:r>
              <a:rPr b="0" lang="en-US" sz="3200" spc="-1" strike="noStrike">
                <a:solidFill>
                  <a:srgbClr val="063de8"/>
                </a:solidFill>
                <a:latin typeface="Times New Roman"/>
              </a:rPr>
              <a:t>stuctured procedur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ased on  interval metho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havioural testing with real cases and  decision makers-individual and 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pre software is  a fully operational DSS tool </a:t>
            </a:r>
            <a:r>
              <a:rPr b="0" lang="en-US" sz="3200" spc="-1" strike="noStrike">
                <a:solidFill>
                  <a:srgbClr val="063de8"/>
                </a:solidFill>
                <a:latin typeface="Times New Roman"/>
              </a:rPr>
              <a:t>available free for research purpo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63de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63de8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63de8"/>
                </a:solidFill>
                <a:latin typeface="Times New Roman"/>
              </a:rPr>
              <a:t>http://www.hut.fi/Units/Systems.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4880" y="990720"/>
            <a:ext cx="8221320" cy="53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The underlying methodology of the program is described in the references below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Times New Roman"/>
              </a:rPr>
              <a:t>PAI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alo and R.P. Hämäläinen: Preference assessment by imprecise ratio statements, Operations Research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Vol. 40, No. 6, November-December 1992, pp. 1053-106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Times New Roman"/>
              </a:rPr>
              <a:t>Preference Programming (INPRE-mod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alo and R.P. Hämäläinen: Preference programming through approximate ratio comparisons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European Journal of Operational Research, Vol. 82, Issue 3, 1995, pp. 458-475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alo and R.P. Hämäläinen: Processing interval judgments in the analytic hierarchy process, Proc. of the Nin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International Conference: Theory and Applications in Business, Industry and Government, in: Multipl Criteri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Decision Making, A. Goicocchea, L. Duckstein and S. Zionts (eds.), Springer-Verlag, New-York, August 1990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Fairfax, Virginia, 1991, pp. 359-37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alo: Inconsistency analysis by approximately specified priorities, Mathematical and Computer Modelling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Vol. 17, No. 4/5, 1993, pp. 123-133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9280" y="457200"/>
            <a:ext cx="7852680" cy="50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Times New Roman"/>
              </a:rPr>
              <a:t>Related artic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. Pöyhönen and R.P. Hämäläinen: On the convergence of multiattribute weighting methods, Helsin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University of Technology, Systems Analysis Laboratory Research Reports A69, October 1997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(Available from http://www.hut.fi/Units/Systems.Analysis/Publications/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. Pöyhönen, R.P. Hämäläinen and A. A. Salo: An experiment on the numerical modeling of verbal rati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tatements, Journal of Multi-Criteria Decision Analysis, Vol. 6, 1997, pp. 1-1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alo and R.P. Hämäläinen: PRIME - Preference ratios in multiattribute evaluation, Helsinki University o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Technology, Systems Analysis Laboratory Research Reports A43, July 1992. (revised December 1997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(Available from http://www.hut.fi/Units/Systems.Analysis/Publications/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A. Salo and R.P. Hämäläinen: On the measurement of preferences in the analytic hierarchy process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(and comments by V. Belton, E. Choo, T. Donegan, T. Gear, T. Saaty, B. Schoner, A. Stam, M. Weber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. Wedley) Journal of Multi-Criteria Decision Analysis, Vol. 6, 1997, pp. 309-339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A. Salo and R.P. Hämäläinen: Rejoinder: The issue is understanding the weights, Journal of Multi-Criteri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Decision Analysis, Vol. 6, 1997, pp. 340-34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-338760" y="152280"/>
            <a:ext cx="10309320" cy="64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 Lihavoitu"/>
              </a:rPr>
              <a:t>Applications, Group decis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Lihavoitu"/>
              </a:rPr>
              <a:t>See the references below to get information about applications of the PAIRS and Preference Programming metho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Lihavoitu"/>
              </a:rPr>
              <a:t>A. Salo: Interactive decision aiding for group decision support, European Journal of Operational Research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Lihavoitu"/>
              </a:rPr>
              <a:t>Vol. 84, 1995, pp. 134-149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Lihavoitu"/>
              </a:rPr>
              <a:t>R.P. Hämäläinen and O. Leikola: Spontaneous decision conferencing in parliamentary negotiations, Proc. of 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Lihavoitu"/>
              </a:rPr>
              <a:t>27th Hawaii International Conference on Systems Sciences, IEEE Computer Society Press, Hawaii, January 4-7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Lihavoitu"/>
              </a:rPr>
              <a:t>Vol. IV, 1995, pp. 290-299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Lihavoitu"/>
              </a:rPr>
              <a:t>R.P. Hämäläinen and O. Leikola: Spontaneous decision conferencing with top-level politicians, OR Insigh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Lihavoitu"/>
              </a:rPr>
              <a:t>Vol. 9, Issue 1, 1996, pp. 24-28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Lihavoitu"/>
              </a:rPr>
              <a:t>R.P. Hämäläinen and M. Pöyhönen: On-line group decision support by preference programming in traffic planning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Lihavoitu"/>
              </a:rPr>
              <a:t>Group Decision and Negotiation, Vol. 5, 1996, pp. 485-5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Lihavoitu"/>
              </a:rPr>
              <a:t>R.P. Hämäläinen, A. Salo and K. Pöysti: Observation about consensus seeking in a multiple criteria environm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Lihavoitu"/>
              </a:rPr>
              <a:t>Proc. of the Twenty-Fifth Hawaii International Conference on Systems Sciences, Hawaii, Vol. IV, January 1992, pp. 190-198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Lihavoitu"/>
              </a:rPr>
              <a:t>R.P. Hämäläinen and E. Kettunen: On-line group decision support by HIPRE 3+ Group Link, Proc. of the 3r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Lihavoitu"/>
              </a:rPr>
              <a:t>International Symposium on the Analytic Hierarchy Process, Washington, D.C., July 11-13, 1994, pp. 547-55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Lihavoitu"/>
              </a:rPr>
              <a:t>A. Salo and R.P. Hämäläinen: Decision support under ambigous preference statements, Proc. of the AIRO'90 Annu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Lihavoitu"/>
              </a:rPr>
              <a:t>conference of the Italian OR society, Sorrento, Italy, October 1990, pp. 229-24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ed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3800" y="1294920"/>
            <a:ext cx="7772400" cy="488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hierarchical mode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A (Jacquet-Lagreze &amp; Siskos 1982)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ve utility function estimated from regression analysis of ordinal preference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PIE (Weber 1985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aints on additive or multiplicative utility function from value intervals and holistic judgements among hypothetical altern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927920" cy="564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IAD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ecision modelled by set inclusion; holistic judgements among altern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MAUT (White et al. 1984, Scherer et al. 1986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certainty about attribute weights and utilities, exactly specified prob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erarchical mode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D (Moskowitz et al. 1989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ecise probabilities and utilities in decision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CRID (Moskowitz et al. 1991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ecise attribute weights; reduction of the set of non-dominated alternatives via stochastic domin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063800" y="533160"/>
            <a:ext cx="7772400" cy="564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H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aty &amp; Vargas (1987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val valued replies to pairwise comparisons suggested as a way to capture subjective uncertainty direct analysis of interval matrices intrac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bel (1989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val judgements interpreted as linear constraints on local prior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lo &amp; Hämäläinen (1990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icient decomposition scheme for processing interval judgements in hierarch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IRS - Preference Assessment by Imprecise Ratio Statements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3800" y="1968120"/>
            <a:ext cx="7772400" cy="421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val value tree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irwise ratio statements about the relative importance of attributes ( as intervals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 intervals for the alternative scores (imprecition in value function and measurements  combined in WINP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nsistency in pairwise  statements not allow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38080" y="13712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3200" spc="-1" strike="noStrike">
                <a:solidFill>
                  <a:srgbClr val="063de8"/>
                </a:solidFill>
                <a:latin typeface="Times New Roman"/>
              </a:rPr>
              <a:t>I  Absolu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 dominates b if </a:t>
            </a: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lower bou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value interval for a is </a:t>
            </a: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higher than upper bou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value interval for 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3200" spc="-1" strike="noStrike">
                <a:solidFill>
                  <a:srgbClr val="063de8"/>
                </a:solidFill>
                <a:latin typeface="Times New Roman"/>
              </a:rPr>
              <a:t>II</a:t>
            </a:r>
            <a:r>
              <a:rPr b="0" lang="en-US" sz="3200" spc="-1" strike="noStrike">
                <a:solidFill>
                  <a:srgbClr val="063de8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63de8"/>
                </a:solidFill>
                <a:latin typeface="Times New Roman"/>
              </a:rPr>
              <a:t>Pairwi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 dominates  b if there are </a:t>
            </a: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no feasible weights, so that  V(b)  &gt; V( a).</a:t>
            </a:r>
            <a:r>
              <a:rPr b="0" lang="en-US" sz="3200" spc="-1" strike="noStrike">
                <a:solidFill>
                  <a:srgbClr val="063de8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  =&gt;  II   , not    II  =&gt; 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min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889520" y="3543480"/>
            <a:ext cx="125280" cy="15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77840" y="601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AIRS = Interval SMART/SW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3800" y="1968120"/>
            <a:ext cx="7772400" cy="421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PAIRS : local  comparisons  made with respect to one  reference attribute on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iz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Reference  : most / least important or intermedi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inconsistency problems ( because there are no extra comparis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ier to use than other interval method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val AH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772400" cy="4211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ference Programming term first used for AHP (Arbel 198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irwise comparisons with upper and lower  limits for criteria and alterna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nsistency not allowed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a version of true A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cy  must in elici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4419720"/>
            <a:ext cx="824040" cy="304560"/>
          </a:xfrm>
          <a:prstGeom prst="rightArrow">
            <a:avLst>
              <a:gd name="adj1" fmla="val 50000"/>
              <a:gd name="adj2" fmla="val 67642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3880" y="4952880"/>
            <a:ext cx="824040" cy="304920"/>
          </a:xfrm>
          <a:prstGeom prst="rightArrow">
            <a:avLst>
              <a:gd name="adj1" fmla="val 50000"/>
              <a:gd name="adj2" fmla="val 67562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16T11:52:25Z</dcterms:created>
  <dc:creator>Jyri Helenius</dc:creator>
  <dc:description/>
  <dc:language>en-US</dc:language>
  <cp:lastModifiedBy>Systems Analysis Laboratory</cp:lastModifiedBy>
  <cp:lastPrinted>1998-04-23T12:15:28Z</cp:lastPrinted>
  <dcterms:modified xsi:type="dcterms:W3CDTF">1998-06-01T11:47:09Z</dcterms:modified>
  <cp:revision>31</cp:revision>
  <dc:subject/>
  <dc:title>Interval SMART/SWING and Winpre </dc:title>
</cp:coreProperties>
</file>